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448A-B83F-4508-A262-89F4462B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800-B57D-4419-978D-26A958403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294-31D8-48D5-985E-5FA60850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DC3-721C-4112-98C5-0A7964E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1F03-0B2F-4D80-8F52-51F6A2DA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A222-0EC5-472B-A710-57FA026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6CB23-428C-4920-A020-74CC62B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A5355-0940-40B9-93C4-36ED2D3F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2940B-D5DF-472A-8C06-0BA8BAF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4B457-7CED-48E5-A478-4E089C2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AC198-7B17-4032-8E98-60D7A64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207EB-3ACB-42C5-837A-2116AF0C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4C0E-4759-4061-9651-321DCDEE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B7C5E-C343-49F2-9112-73E46222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6DF-91A8-490F-B43B-549E425C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CCE405-1440-47FD-9B41-9AE883D7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B618C-96AC-4625-A952-684A0CF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4BF91-A953-46F6-9B50-12C8029D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85FC5-4190-4A9A-8D24-0E885DAC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B6F2A8-F072-4952-8D71-28742ACE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F1DAE-8121-4158-A6E7-7318414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BC7957-1DBD-47A0-A1F8-1068B01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2D46B-C314-40D9-9317-8B3C8F3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308999-AAFF-4B6D-8CF3-5D7FB15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B7D26F-9A80-42BF-A11E-5534F988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325-79D4-4206-81A8-FBE55C2F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4B642-B0DC-4AA6-9283-8A61BB8F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52788-227D-493C-B88E-79199FEA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26FB-98A8-4607-824F-A47CCE7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67C1-0D0C-4A3C-8DB1-B2F2AF79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DA0B-0DA1-4C85-882B-08FA642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3E68-7E21-468F-BA89-789CAFE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60C29-E4B9-484D-98C8-1D7D95C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6FC7-1448-4096-9B73-5B6580A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AB66-F023-4074-9192-4E281E9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6C8C2-A0A2-4768-8DD1-645C6C3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CA15-2CC9-4A78-8F90-C5910590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A84F-47B0-4B19-A6C2-CBBE4AC3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838A-1D02-48A0-B23C-E9B6733E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09CE-5B39-4537-828D-D7EA7C3D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D6D0-3B57-4007-93B2-2AD298C8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BDFEA-BF41-4530-99C6-5AAD3E3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8B9D-74BE-44B3-BDD9-8392696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60613-AD0C-4A68-8CD9-57CB700E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9B6E5-0367-499C-A2C5-D36C9CD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60887-524C-42A4-A7BB-107D495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E5F1B-9988-4CB5-8550-DC39CEE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8AEB-5BE8-4574-8D15-7255A4C8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E7A3-B1DD-41FF-941D-D51D3D5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2DB86-AC01-4021-8E00-F904CC6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95B24-4513-4B6B-B6DC-58970AC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1105-90B3-4596-81B4-B4C8A217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D34D1-A2DD-483A-9B1F-64CCAEE2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A54BA-297E-405E-BF6D-2860845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736A6-2F7F-4B9B-9925-F5CA17FC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CDBED-9B8C-4169-890B-3097344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6E614-ABDF-420B-9B36-64194AC8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5C291-FBD3-4284-8E92-B686EDD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718-F468-4429-99FE-27AD2EF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23EAA-2A86-4479-AD84-F44CC396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2FE87-8EB5-4A74-A6CE-62FE9D2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C07F1-8F32-4C88-BC37-19F2F1D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767FE-6413-4403-9662-EA34C48E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ABB83-4AEB-45EE-B228-6FAD0966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31135-46BA-42A9-BA9E-837BB96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FC171-8C31-4866-A8C4-48FF5136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1D522-6F9E-4378-AE63-72A720B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48D55-C6E7-4499-B37E-95D9F49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6CE2E-BEB6-4254-8FE7-D0D8097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1D1E-468E-4DD6-A673-6D364FC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0C428-9E4B-4059-9601-7095DF0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79A6A-9BE8-40AA-AF37-137A74D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CE69B-ED05-4C94-997E-D75967E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276A5-29AC-4FB5-948B-7042E2E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B12FD-2E21-4FAB-9BA3-80F09E2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4BED2-182C-4D5D-B9B2-7874658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8C0D9-497B-4C3F-9B83-ED1AD621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A824B-A242-48E5-8EFB-96645E1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4E9FD-F59B-460D-B337-E7E9AA51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4EFE-6B7A-47A2-BF1F-7EC7DE3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84C-132A-4F18-A0DD-ED4D1A9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1FC3-F153-4F3C-BA24-9B00087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040-4180-46B4-AA8B-71FCE86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034-6563-4962-AFB3-8421A6B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AB7A-8F76-4310-A267-C6F37392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D01E-A6FF-4F3E-A863-04C6B09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B43-7116-42FA-BA96-183566C2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EB3-5DB3-4557-8D2C-073BBA2E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F7E7-7C3F-4F34-992A-168EE3F6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49C1-9178-4A85-8BEB-E7C7859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623E-8235-485E-A393-9DE6761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4724-CD54-41E3-AD1C-3705218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C6A1-7108-4FF7-B5BE-10B4152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1B0-6D95-47A1-A202-0C7707E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B43F-124E-4E27-856E-DF89DD1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0FFE-A44E-4806-BDD8-FE3D298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1E94-F509-47F5-9420-B0919FC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950A-660B-42D2-8E84-65B9110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F3CD-7BD0-47C9-85C7-44CFD2BF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BCC0-09B7-4914-97F6-9E8F8CAB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0BCE-25A0-45B7-821C-95F45EFE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CFAE-25F8-4764-BE21-F2C0E33D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AB9F-D966-4D51-A413-8C1F182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742C-4293-422A-98B8-152C2534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B3B-0718-44A1-821C-97056DB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00FC-A6BD-4D61-AD10-0FBDB460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1B8D-CE83-43B4-896E-40E4739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8C35-5AD1-4EBF-BB81-9BCB9CF6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BD07-B692-49DA-B35D-0242040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92CA-4473-4E7E-89E6-F355ABF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ABE1-177C-4682-830C-6E0C828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D4637-491C-43B8-8C6C-44FC846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71C6-431C-4C6D-B9AA-574487BE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4DD05-2A60-4CD9-B9AD-4B18F1D1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C8173-15DB-47EA-9121-A1ED1870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47B-3698-4D00-BFDD-70AE061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C0D76-74ED-4985-B97B-4BBE68D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DA4BC-7878-41DD-8B17-CEF3B97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DD114-3FCE-4E36-865B-29E4143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568BB-0C7A-4637-9DF8-2CA86FE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8AACC-CC5E-4A81-A5C0-D6E05B1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4F8C0-E3D7-4D2F-8822-68501F0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90582-73E4-44A4-9D22-71256E0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3E872-3A85-40DE-9F9B-6DC3902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E39D7-6264-4B1E-9A59-616B119B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29D24-04B6-4CBB-84EB-58AAEA7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0B2-2720-4625-A1BF-157C864E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EB769-93FA-4D78-A043-41A300D0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2820-9B27-402F-A188-2CDD56E5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CB55-288C-4EED-83BE-B8E5CD2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5F6F-9087-4F42-B3C0-BE78C84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6991-462F-4E01-894E-7150DCC5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C6A2-BC14-4259-9F85-2376DDF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CF49-664A-4067-8BB1-28A07EF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3D77-6ADF-4D57-B178-49EF0CFF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E85F-8FCE-40D8-AA27-2628BEC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9B44-C724-48B1-8721-B6787A3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4D7-60A6-44C6-A24F-4C4D47B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DD12-B5FD-44D3-8C3C-4E7E45D5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7368-3837-48CE-BF19-2C779FF8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7321E-4372-479F-941A-81585C7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84EC-5EE4-4571-8CFB-5063DD7D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14FC-672B-4FBF-9D86-F7983A8D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84E4-CB10-4DD5-937F-2366439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E81D-9D2A-43CF-B7B0-386F699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78C7-3137-406B-A970-CC3D7E7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9F6E-6EDA-442A-9DC6-CA21603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C03F-DCB8-4549-978F-D183F23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969-9021-40B9-9088-5F07E72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E714-60C7-47E2-A020-2B88D28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54A5-AA68-4196-949E-455510D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F5E4-59D5-42B8-9CB6-A6DC7DB1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7317-B1DE-4928-BB6C-E8144BB4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E19F-B5BE-47D2-A655-4F9CD536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D360-990F-4B85-91ED-07C4C130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58FB-AB5D-421F-9C0D-BC09D8A0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132D-249F-45A0-A86D-38817B2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86C8-AC2F-41F2-8715-903BC75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ACAE-2761-4D83-B341-15E43233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615-FCC0-4906-A711-2FA516D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5286-3D9C-40D8-BC9C-B832C4C0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7C1F-65D1-4DE2-B706-BA104ED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CB569-6623-4BFE-B9F8-07E308A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467C-F56C-46C2-861C-B313293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8EFE-C788-4880-B402-1542D53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24F3-FFCC-460D-82B5-A67A6576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D7A4-0780-4C76-8E3C-9716D10B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A2A59-FE47-4624-966D-F8001C5E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A526B-6005-4716-A2A8-FB2FE44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2ADF-4C8B-42EA-9458-0C6278F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66C-9452-4E85-8EEE-8739FDABA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B7F-9C54-43E3-A072-4F4421DF6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3CB3-A513-438E-A190-AB6769C0C9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2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3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830-80AD-41E5-9FE3-C11C92CBBC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70D-8613-41F0-AF29-02786BB507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90A5-9522-46E0-8387-BFEA0FAB7E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5AE-4238-4D92-9070-5B3C1DC214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4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5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9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9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9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0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0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1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1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2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2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3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3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9DD0-7A72-41DF-8536-CB6DD056271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45A-FA48-4EE3-93AB-888422A6C8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BEE5-C278-47BC-9C7E-5B32EC226E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F50-4D0C-4AAC-8B2D-BCA122FA5E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C3E-6C74-4886-85D3-5B4F10A0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15D2-60FA-43E8-B71C-6160BF3A52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6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3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3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3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3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74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D1DC-0911-468F-ABBD-8AB57D4FF78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nelyplanet.com/favourites/savePoi?id=375359&amp;fromUrl=http%3A%2F%2Fwww.lonelyplanet.com%2Fspain%2Fbarcelona%2Fshopping%2Fmall%2Fl-illa-diagona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90720" y="3809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Times New Roman"/>
              </a:rPr>
              <a:t>Mi Vacacion en Espana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: Miguel McG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8" name="Picture 5" descr="spain"/>
          <p:cNvPicPr/>
          <p:nvPr/>
        </p:nvPicPr>
        <p:blipFill>
          <a:blip r:embed="rId1"/>
          <a:stretch/>
        </p:blipFill>
        <p:spPr>
          <a:xfrm>
            <a:off x="2666880" y="4572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 Uno:Mi Hot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4191120" y="1447920"/>
            <a:ext cx="495288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Querido El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Times New Roman"/>
              </a:rPr>
              <a:t>El tiempo hoy fue genial! Fue muy sol y caliente.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Yo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visité el Hotel Villa Magna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Es muy elegente, grande, y fantastico! 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Me divertí mucho en este hotel! El hotel esta en Madrid, España. El hotel teng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ó un 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spa y un jardín. </a:t>
            </a:r>
            <a:r>
              <a:rPr b="0" lang="es-ES" sz="1800" spc="-1" strike="noStrike">
                <a:solidFill>
                  <a:srgbClr val="ff0066"/>
                </a:solidFill>
                <a:latin typeface="Times New Roman"/>
              </a:rPr>
              <a:t>Para mi viaje, me trajo mi traje de baño y algunas otra ropa. Me compré una camisa del hotel, son muy eleg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Hasta pron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Miguel McGof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10" descr="hotel-villa-magna-madrid"/>
          <p:cNvPicPr/>
          <p:nvPr/>
        </p:nvPicPr>
        <p:blipFill>
          <a:blip r:embed="rId2"/>
          <a:stretch/>
        </p:blipFill>
        <p:spPr>
          <a:xfrm>
            <a:off x="152280" y="1905120"/>
            <a:ext cx="3810240" cy="4195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a Dos: Platja de Migjor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0" y="1676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Text Box 6"/>
          <p:cNvSpPr/>
          <p:nvPr/>
        </p:nvSpPr>
        <p:spPr>
          <a:xfrm>
            <a:off x="457200" y="1905120"/>
            <a:ext cx="38098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ido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Jac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tiempo hoy fue fantástico, así que decidí ir a la playa solo. Me trajo una toalla, traje de baño y una toalla para la playa.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Yo lo pasamos muy bien visitando la Platja de Migjorn. Se trata de una playa. Tuve un nadar muy bien, y también bucear. Fue un gran día para la playa. También jugué voleibol de playa. Tengo un buen bronceado, pero no estaba quem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asta Lueg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guel McG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6" name="Picture 8" descr="formi_1631"/>
          <p:cNvPicPr/>
          <p:nvPr/>
        </p:nvPicPr>
        <p:blipFill>
          <a:blip r:embed="rId1"/>
          <a:stretch/>
        </p:blipFill>
        <p:spPr>
          <a:xfrm>
            <a:off x="4800600" y="26668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a Tres: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L’Illa Diagonal</a:t>
            </a:r>
            <a:br>
              <a:rPr sz="4000"/>
            </a:br>
            <a:r>
              <a:rPr b="1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200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ida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tiempo de hoy fue frío y lluvioso, y nublado, así que decidí ir al centro comercial con mi amigo eliomar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amos ropa, y tambien compram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ida. nos trajo un montón de dinero, pero no fueron capaces de hacer todo lo que queríamos. No fue capaz de comprar regalos para 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sta Lueg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uel McG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5" descr="l_illa_diagonal"/>
          <p:cNvPicPr/>
          <p:nvPr/>
        </p:nvPicPr>
        <p:blipFill>
          <a:blip r:embed="rId2"/>
          <a:stretch/>
        </p:blipFill>
        <p:spPr>
          <a:xfrm>
            <a:off x="3809880" y="2133720"/>
            <a:ext cx="5181840" cy="392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a Quatro: Tupperware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20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uerido Filep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tiempo de hoy fue Allright. Que estaba un poco fría, y no muy soleados. Fui a un club de lujo en madrid llamado tupperware. Este lugar fue muy divertido. Quiero bailar, lugar de reunión con mi amigo eliomar, y escuchar música. El club tenía una comida excelente, y muchas chicas, así que lo pasamos muy bi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Luego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iguel McGo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2" name="Picture 5" descr="http://www.wayfaring.info/wp-content/uploads/2007/06/rock-club.jpg"/>
          <p:cNvPicPr/>
          <p:nvPr/>
        </p:nvPicPr>
        <p:blipFill>
          <a:blip r:embed="rId1"/>
          <a:stretch/>
        </p:blipFill>
        <p:spPr>
          <a:xfrm>
            <a:off x="3657600" y="160020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a Cinco: Alhambra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6320" y="20570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uerida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 señora Rousseau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 tiempo de hoy no era muy grande, así que visitó la Alhambra! Alhambra es un sitio antiguo en el sur de España, y la gente dan los viajes y te dirá algunos datos interesantes acerca de este lugar. Decidí ir solo hoy, y sólo tuve que llevar un buen abrigo y algo de dinero para entrar en Alhambra. Definitivamente valió la pena la unidad hacia abajo para ver este lugar, que era increíble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Hasta pront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iguel McGo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5" name="Picture 2" descr="https://encrypted-tbn0.google.com/images?q=tbn:ANd9GcR9CK4BTwKI7GyHpn8TTt95lDO2m16qLjb10v-LsxZqRMWSCd-B"/>
          <p:cNvPicPr/>
          <p:nvPr/>
        </p:nvPicPr>
        <p:blipFill>
          <a:blip r:embed="rId2"/>
          <a:stretch/>
        </p:blipFill>
        <p:spPr>
          <a:xfrm>
            <a:off x="5410080" y="2057400"/>
            <a:ext cx="3448080" cy="4602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9:10Z</dcterms:created>
  <dc:creator>mcgoffmic</dc:creator>
  <dc:description/>
  <dc:language>en-US</dc:language>
  <cp:lastModifiedBy>McGoff, Megan</cp:lastModifiedBy>
  <dcterms:modified xsi:type="dcterms:W3CDTF">2011-12-01T21:15:37Z</dcterms:modified>
  <cp:revision>21</cp:revision>
  <dc:subject/>
  <dc:title>Mi Vacacion en Madrid, Espana!</dc:title>
</cp:coreProperties>
</file>